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41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727-E6F1-453D-92C1-D6BECAF5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17B-6C74-4E6F-A565-C518478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3F8-F942-4062-8F2A-09C8FA02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741-9A68-4083-BFB3-619F0B4C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74E-51DC-4A9D-8636-95C3B795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DF1-2E38-4790-8A6E-FFFA5357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FAB-03FB-4D9A-8852-1929B1B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77F-F30C-4C23-B6ED-8161DCB8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EDF-E0B0-4045-952F-E0D7327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7FC-972C-4FBB-B112-F3DCA96D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D04-4A5E-4988-9FD0-EDA596F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264-376F-45F1-9467-39A452B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463-A330-4228-B763-6B0E2D0AA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19320" y="139680"/>
            <a:ext cx="443376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115640" y="7924680"/>
            <a:ext cx="508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1.2.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Draw a generalized prokaryotic ce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as seen in electron micrograph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6096240" cy="5921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63080" y="5867280"/>
            <a:ext cx="662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graph showing the sigmoid (S-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pulation growth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you could use “organisms” or “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” for the Y axis as wel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 shape demonstrates that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slow, rises exponentially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s at the carrying capac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6840" y="227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8403" t="0" r="7598" b="0"/>
          <a:stretch/>
        </p:blipFill>
        <p:spPr>
          <a:xfrm>
            <a:off x="533520" y="0"/>
            <a:ext cx="597348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30320" y="6095880"/>
            <a:ext cx="658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ic 5.1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digesti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sophag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om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all 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57200" y="1143000"/>
            <a:ext cx="2286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85800" y="5486400"/>
            <a:ext cx="2286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038480" y="1295280"/>
            <a:ext cx="2286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255120" y="8031240"/>
            <a:ext cx="275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 have blanked ou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ms you don’t ne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re in this fig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0" t="0" r="2805" b="36930"/>
          <a:stretch/>
        </p:blipFill>
        <p:spPr>
          <a:xfrm>
            <a:off x="0" y="0"/>
            <a:ext cx="6705720" cy="564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2120" y="5613480"/>
            <a:ext cx="645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heart showing all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mbers, associated blood vessel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ll blood vessels connect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lative wall thickness of cha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: Study guide handouts Page 48 (Page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“The Blood System” (given out during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6858000" cy="502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75480" y="6553080"/>
            <a:ext cx="61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the ventil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ing trachea, bronchi, bronchio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lu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study guide handout (given during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51, titled “Gas Exchan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6197760" cy="4003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57560" y="2514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rcRect l="2145" t="7492" r="3398" b="12360"/>
          <a:stretch/>
        </p:blipFill>
        <p:spPr>
          <a:xfrm>
            <a:off x="914400" y="4038480"/>
            <a:ext cx="5486400" cy="3705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1800" y="762012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7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diagrams of the adult male and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productive syst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andouts page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d “Reproductive Systems”  given d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41200" y="52419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03440" y="0"/>
            <a:ext cx="5403600" cy="7924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720" y="7924680"/>
            <a:ext cx="59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1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itochondrio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n in 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5639040" cy="482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3353040" cy="2978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88720" y="8245440"/>
            <a:ext cx="63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chloroplast as se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928680" y="4632480"/>
            <a:ext cx="2631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hylakoid membr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ner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outer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arch g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roma cont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s ribosomes (do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aked dna (dots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cir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lipid droplet (large d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tro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-92880" y="82224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228600" y="380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228600" y="304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68580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85800" y="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685800" y="762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6159240" cy="6032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47680" y="670572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2.7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action spectrum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31001" t="70507" r="43002" b="13679"/>
          <a:stretch/>
        </p:blipFill>
        <p:spPr>
          <a:xfrm>
            <a:off x="380880" y="4800600"/>
            <a:ext cx="4210200" cy="373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4555440" y="661356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555440" y="8061480"/>
            <a:ext cx="15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478400" y="5775480"/>
            <a:ext cx="18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3124080" y="6172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402440" y="46324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g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3962160" y="4952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27240" y="37940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titi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2743200" y="4114800"/>
            <a:ext cx="3808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11520" y="868680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5"/>
          <p:cNvSpPr/>
          <p:nvPr/>
        </p:nvSpPr>
        <p:spPr>
          <a:xfrm flipV="1">
            <a:off x="1066680" y="8153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-97920" y="822240"/>
            <a:ext cx="644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estis tissue as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ing a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aw one seminiferous tubule in 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with adjacent interstitial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outer basement membra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rmatogonia, developing spermatozo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ertoli (nurse)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_x000c_image002.jpg                                                   0011E7FF&#13;Gina's Mac II                  BA3FA9F2:"/>
          <p:cNvPicPr/>
          <p:nvPr/>
        </p:nvPicPr>
        <p:blipFill>
          <a:blip r:embed="rId1"/>
          <a:stretch/>
        </p:blipFill>
        <p:spPr>
          <a:xfrm>
            <a:off x="266760" y="228600"/>
            <a:ext cx="6438960" cy="4010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19520" y="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429000" y="3733920"/>
            <a:ext cx="1143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840" y="5181480"/>
            <a:ext cx="653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he ovary as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ing a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ow primary oocytes (primordial foll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econdary oocyte in proph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ovulatory folli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rpus lut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how also a follicle with egg being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6477120" cy="486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60080" y="6994440"/>
            <a:ext cx="602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to show the ult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a generalized animal cell as se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3916440"/>
          </a:xfrm>
          <a:prstGeom prst="rect">
            <a:avLst/>
          </a:prstGeom>
          <a:ln w="0">
            <a:noFill/>
          </a:ln>
        </p:spPr>
      </p:pic>
      <p:sp>
        <p:nvSpPr>
          <p:cNvPr id="120" name="Freeform 4"/>
          <p:cNvSpPr/>
          <p:nvPr/>
        </p:nvSpPr>
        <p:spPr>
          <a:xfrm>
            <a:off x="4896000" y="958680"/>
            <a:ext cx="634680" cy="9892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090400" y="2346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5105520" y="1752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4800600" y="14479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946680" y="722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4762800" cy="31752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0"/>
          <p:cNvSpPr/>
          <p:nvPr/>
        </p:nvSpPr>
        <p:spPr>
          <a:xfrm>
            <a:off x="3581280" y="4876920"/>
            <a:ext cx="228600" cy="228600"/>
          </a:xfrm>
          <a:prstGeom prst="sun">
            <a:avLst>
              <a:gd name="adj" fmla="val 468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809880" y="4876920"/>
            <a:ext cx="228600" cy="228600"/>
          </a:xfrm>
          <a:prstGeom prst="sun">
            <a:avLst>
              <a:gd name="adj" fmla="val 468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360" bIns="-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H="1" flipV="1">
            <a:off x="3429000" y="35053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 flipH="1" flipV="1">
            <a:off x="3428640" y="3504960"/>
            <a:ext cx="3049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726280" y="31845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3048120" y="5334120"/>
            <a:ext cx="759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7"/>
          <p:cNvSpPr/>
          <p:nvPr/>
        </p:nvSpPr>
        <p:spPr>
          <a:xfrm>
            <a:off x="3019320" y="5137200"/>
            <a:ext cx="171720" cy="70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905120" y="5486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832320" y="5045040"/>
            <a:ext cx="13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1219320" y="6172200"/>
            <a:ext cx="1295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049760" y="62326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loid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4038480" y="601992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106440" y="745164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sm (yo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5"/>
          <p:cNvSpPr/>
          <p:nvPr/>
        </p:nvSpPr>
        <p:spPr>
          <a:xfrm flipH="1">
            <a:off x="3047760" y="6172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061000" y="662940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510552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5735520" y="4419720"/>
            <a:ext cx="10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9"/>
          <p:cNvSpPr/>
          <p:nvPr/>
        </p:nvSpPr>
        <p:spPr>
          <a:xfrm>
            <a:off x="4876920" y="6400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lu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1219320" y="38098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1468440" y="3048120"/>
            <a:ext cx="10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172440" y="8137440"/>
            <a:ext cx="65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1.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ature sperm an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handout p 92 titled “Game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92040" y="139680"/>
            <a:ext cx="6237360" cy="7480440"/>
          </a:xfrm>
          <a:prstGeom prst="rect">
            <a:avLst/>
          </a:prstGeom>
          <a:ln w="0">
            <a:noFill/>
          </a:ln>
        </p:spPr>
      </p:pic>
      <p:sp>
        <p:nvSpPr>
          <p:cNvPr id="148" name="Oval 3"/>
          <p:cNvSpPr/>
          <p:nvPr/>
        </p:nvSpPr>
        <p:spPr>
          <a:xfrm>
            <a:off x="3533760" y="723888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886200" y="5867280"/>
            <a:ext cx="2666880" cy="533520"/>
          </a:xfrm>
          <a:prstGeom prst="rect">
            <a:avLst/>
          </a:prstGeom>
          <a:solidFill>
            <a:srgbClr val="e1bd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end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312408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2819520" y="7391520"/>
            <a:ext cx="3045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220968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828800" y="6629400"/>
            <a:ext cx="3049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2514600" y="73915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-82080" y="7467480"/>
            <a:ext cx="70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1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motor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  dendrites, cell body with nucle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ongated axon, myelin sheath, nodes of Ranv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end 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 flipH="1" flipV="1">
            <a:off x="4648320" y="1981080"/>
            <a:ext cx="761760" cy="152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7777" t="0" r="0" b="0"/>
          <a:stretch/>
        </p:blipFill>
        <p:spPr>
          <a:xfrm>
            <a:off x="0" y="457200"/>
            <a:ext cx="6858000" cy="3943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47960" y="4419720"/>
            <a:ext cx="655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2.3 Draw a diagram of the human elbow 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ynovial fluid ( around j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nd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ones (ul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ble to identify the antagonistic muscl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iceps &amp; tric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lso study guide handout p 102 “Musc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s, and locomot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0" t="0" r="4776" b="0"/>
          <a:stretch/>
        </p:blipFill>
        <p:spPr>
          <a:xfrm>
            <a:off x="0" y="214200"/>
            <a:ext cx="6858000" cy="4835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297720" y="5181480"/>
            <a:ext cx="634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2.5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skeletal muscle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een in electron micr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&amp;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sarc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ark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light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sarc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endoplasmic ret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rcRect l="12213" t="56292" r="23669" b="30963"/>
          <a:stretch/>
        </p:blipFill>
        <p:spPr>
          <a:xfrm>
            <a:off x="1066680" y="838080"/>
            <a:ext cx="472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20385" t="0" r="6924" b="41752"/>
          <a:stretch/>
        </p:blipFill>
        <p:spPr>
          <a:xfrm>
            <a:off x="0" y="0"/>
            <a:ext cx="6858000" cy="6532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663840" y="6324480"/>
            <a:ext cx="4978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the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du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nal pel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nal blood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4"/>
          <p:cNvCxnSpPr/>
          <p:nvPr/>
        </p:nvCxnSpPr>
        <p:spPr>
          <a:xfrm>
            <a:off x="-360" y="3266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AutoShape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60640" y="313992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5259" t="0" r="0" b="0"/>
          <a:stretch/>
        </p:blipFill>
        <p:spPr>
          <a:xfrm>
            <a:off x="0" y="228600"/>
            <a:ext cx="6858000" cy="4770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08800" y="5546880"/>
            <a:ext cx="58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glomerulu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ociated neph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16400" y="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rcRect l="0" t="0" r="0" b="4348"/>
          <a:stretch/>
        </p:blipFill>
        <p:spPr>
          <a:xfrm>
            <a:off x="838080" y="0"/>
            <a:ext cx="5321520" cy="7010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-96840" y="7010280"/>
            <a:ext cx="660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1.2 Draw a diagram to show the external par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amed dicotyledonous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oot, stem, leaf, axillary b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038480" y="5105520"/>
            <a:ext cx="762120" cy="304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013280" y="127080"/>
            <a:ext cx="144756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397160" y="2971800"/>
            <a:ext cx="144756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35440" y="3352680"/>
            <a:ext cx="10666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724280" y="1905120"/>
            <a:ext cx="1067040" cy="304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1482840"/>
            <a:ext cx="6858000" cy="1412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9835" t="69291" r="71252" b="6582"/>
          <a:stretch/>
        </p:blipFill>
        <p:spPr>
          <a:xfrm>
            <a:off x="380880" y="2819520"/>
            <a:ext cx="3810240" cy="3352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174200" y="310824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174560" y="447984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17000" y="5622840"/>
            <a:ext cx="17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=xy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=phl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7560" y="43275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1828800" y="5867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354680" y="661356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ider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2286000" y="46483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575440" y="60040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2"/>
          <p:cNvSpPr/>
          <p:nvPr/>
        </p:nvSpPr>
        <p:spPr>
          <a:xfrm flipH="1">
            <a:off x="1066680" y="53341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79600" y="57754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6" descr=""/>
          <p:cNvPicPr/>
          <p:nvPr/>
        </p:nvPicPr>
        <p:blipFill>
          <a:blip r:embed="rId3"/>
          <a:stretch/>
        </p:blipFill>
        <p:spPr>
          <a:xfrm>
            <a:off x="2438280" y="7074000"/>
            <a:ext cx="4038840" cy="2070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7"/>
          <p:cNvSpPr/>
          <p:nvPr/>
        </p:nvSpPr>
        <p:spPr>
          <a:xfrm>
            <a:off x="5337000" y="7162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6800" y="105084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533520" y="2844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2286000" y="2844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0" y="3352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3"/>
          <p:cNvSpPr/>
          <p:nvPr/>
        </p:nvSpPr>
        <p:spPr>
          <a:xfrm>
            <a:off x="431640" y="29718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-99000" y="60480"/>
            <a:ext cx="69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1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plan diagrams to show th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tissues in stem, root, and leaf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otyledonous pl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istribution of tissue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5348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76320" y="2133720"/>
            <a:ext cx="12189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267080" y="2133720"/>
            <a:ext cx="121932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54160" y="2641680"/>
            <a:ext cx="12189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267080" y="38862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2314800" y="3581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955960" y="289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01040" y="5794200"/>
            <a:ext cx="585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3.1 Draw the structure of a dicotyledon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-pollinated flower, as seen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ked eye and hand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 diagram to sepal, pet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ther, filament, stigma, sty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o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rcRect l="0" t="0" r="44445" b="0"/>
          <a:stretch/>
        </p:blipFill>
        <p:spPr>
          <a:xfrm>
            <a:off x="1295280" y="304920"/>
            <a:ext cx="4114800" cy="37116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-68760" y="6130800"/>
            <a:ext cx="677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3.4  Draw the external and internal 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amed dicotyledonous see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n-endosperm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crop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mbryo root (radic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mbryo shoot (plum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tyled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914400" y="8380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6019920" cy="24462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4267080" y="571500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330800" y="5936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483080" y="39466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2330" r="0" b="0"/>
          <a:stretch/>
        </p:blipFill>
        <p:spPr>
          <a:xfrm>
            <a:off x="0" y="0"/>
            <a:ext cx="6858000" cy="4940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-39240" y="5003640"/>
            <a:ext cx="675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to show the fluid mosa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a biologica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nclude 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se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hospholipid bilayer (point out hydrophi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and hydrophobic 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lyco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gral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eripheral prot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o use ter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urfac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0" t="0" r="4377" b="0"/>
          <a:stretch/>
        </p:blipFill>
        <p:spPr>
          <a:xfrm>
            <a:off x="0" y="228600"/>
            <a:ext cx="6858000" cy="4941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613800" y="5410080"/>
            <a:ext cx="525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4.5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a diagram of a 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the process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nitrogen fi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e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e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ex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root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decay (ammon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rcRect l="0" t="0" r="51041" b="1189"/>
          <a:stretch/>
        </p:blipFill>
        <p:spPr>
          <a:xfrm>
            <a:off x="812880" y="431640"/>
            <a:ext cx="5008320" cy="63248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195840" y="6845400"/>
            <a:ext cx="636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1.4 Draw a diagram of the hypothalamu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tuitary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: portal vein, neurosecretory cel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pothalamus, anterior pituitary, pos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38080" y="2971800"/>
            <a:ext cx="152424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762120" y="1523880"/>
            <a:ext cx="205740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727280" y="685800"/>
            <a:ext cx="16002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62120" y="3657600"/>
            <a:ext cx="16761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4724280" y="4038480"/>
            <a:ext cx="13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tu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rcRect l="0" t="0" r="52003" b="0"/>
          <a:stretch/>
        </p:blipFill>
        <p:spPr>
          <a:xfrm>
            <a:off x="1371600" y="457200"/>
            <a:ext cx="4164120" cy="6794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3718800" y="2346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276720" y="2692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706280" y="34131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ory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4495680" y="3809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1447560" y="3809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144792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14479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>
            <a:off x="106632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533880" y="39466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3352320" y="26668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2209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2209680" y="5943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"/>
          <p:cNvSpPr/>
          <p:nvPr/>
        </p:nvSpPr>
        <p:spPr>
          <a:xfrm flipV="1">
            <a:off x="55627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H="1">
            <a:off x="4723920" y="4648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5622840" y="50896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4640" y="7756560"/>
            <a:ext cx="67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al features of exocrine g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ing secretory cells grouped into aci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267440" cy="30290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01680" y="7162920"/>
            <a:ext cx="63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3.1  Draw a portion of the ileum (in trans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as seen under a light microsco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 mucosa, outer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cle layer, inner circular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er, mucosa, and vil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980720" y="655308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verse section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2384280" y="3654360"/>
            <a:ext cx="2308320" cy="224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508120" y="3784680"/>
            <a:ext cx="2001960" cy="2022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2643120" y="3965400"/>
            <a:ext cx="1711440" cy="1686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905200" y="4172040"/>
            <a:ext cx="1189080" cy="1247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1676520" y="44953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142280" y="455616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4419720" y="5334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5088240" y="53942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V="1">
            <a:off x="4394160" y="43430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5240880" y="3733920"/>
            <a:ext cx="11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 flipH="1">
            <a:off x="175212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46640" y="554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1"/>
          <p:cNvSpPr/>
          <p:nvPr/>
        </p:nvSpPr>
        <p:spPr>
          <a:xfrm flipV="1">
            <a:off x="3505320" y="38098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4098960" y="3429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5012640" y="441360"/>
            <a:ext cx="16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YI: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6858000" cy="39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8520" y="5546880"/>
            <a:ext cx="586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basic structure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tails about the R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3568680" cy="3746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457560" y="21337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rcRect l="0" t="0" r="0" b="11998"/>
          <a:stretch/>
        </p:blipFill>
        <p:spPr>
          <a:xfrm>
            <a:off x="990720" y="4114800"/>
            <a:ext cx="4114800" cy="327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19120" y="53942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b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24000" y="760428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ring structure of glucose and rib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791320" cy="4108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27520" y="4419720"/>
            <a:ext cx="53456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-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 flipV="1">
            <a:off x="4267080" y="4695840"/>
            <a:ext cx="838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4276800" y="48002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238640" y="5286240"/>
            <a:ext cx="59040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73000" y="6492960"/>
            <a:ext cx="54511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glyc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a generalized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don’t forget the “n” after the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ed fatty acid (n means, c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number of that part of the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3760" y="569916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4671" t="36591" r="14671" b="14636"/>
          <a:stretch/>
        </p:blipFill>
        <p:spPr>
          <a:xfrm>
            <a:off x="152280" y="609480"/>
            <a:ext cx="6477120" cy="3559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675800" y="43434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eneralized dipept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3680" y="5546880"/>
            <a:ext cx="56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structure of a gener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peptide, showing the peptide lin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899" t="0" r="25521" b="2174"/>
          <a:stretch/>
        </p:blipFill>
        <p:spPr>
          <a:xfrm>
            <a:off x="2514600" y="0"/>
            <a:ext cx="387972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2520" y="5168880"/>
            <a:ext cx="69854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.5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aw a simple diagram of the molec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ucture of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how complementary C:G and A:T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dentify hydrogen bonds (hold bases togeth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number of H-bonds between complemen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etails of base structure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diagram can be simple, just remembe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and G are double rings; C and T are single 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gar phosphate backbone goes on outside of “lad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s are the “rungs of the ladd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ydrogen bonds between bases are in very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17960" y="76320"/>
            <a:ext cx="1867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to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ydro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as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at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3478" t="7787" r="2610" b="7088"/>
          <a:stretch/>
        </p:blipFill>
        <p:spPr>
          <a:xfrm>
            <a:off x="0" y="457200"/>
            <a:ext cx="6858000" cy="4162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-4320" y="4572000"/>
            <a:ext cx="6892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.1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aw the carbon cycle to show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sure to 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ss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ou could substit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“fossilization”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areous sediments”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bustion (burning of fos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3680" y="5689440"/>
            <a:ext cx="241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int is to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a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ving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the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photosynthes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pir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ssilization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6320" y="5715000"/>
            <a:ext cx="25146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4:58:11Z</dcterms:created>
  <dc:creator>Gerard D'Angelo</dc:creator>
  <dc:description/>
  <dc:language>en-US</dc:language>
  <cp:lastModifiedBy>Internet</cp:lastModifiedBy>
  <dcterms:modified xsi:type="dcterms:W3CDTF">2011-04-25T17:31:46Z</dcterms:modified>
  <cp:revision>61</cp:revision>
  <dc:subject/>
  <dc:title>PowerPoint Presentation</dc:title>
</cp:coreProperties>
</file>